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6DEB-601E-4C68-8DB8-EB0242BA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3B6-355F-4AC4-AD7D-511296C8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E32-064D-440F-ABA5-97AFE8E4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2A3-1435-4ACF-860D-B2376D10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845-B25F-4116-A5FD-82B80405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7D5-9E4F-4DDD-819A-6129D92A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159D-B645-4036-B3A3-BF5926E9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193-9686-460D-A552-AE4ACA4D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8F01-A957-4A31-A219-5D112F95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C386-F1A6-4F23-88DD-0503347B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6C1-23C3-42F1-90E6-CA0E4436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3193-0CAB-4F6C-8F7E-AF887E26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D1D8-E879-468F-8724-003BDFE1C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. Irw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4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goes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36:16Z</dcterms:created>
  <dc:creator> </dc:creator>
  <dc:description/>
  <dc:language>en-US</dc:language>
  <cp:lastModifiedBy> </cp:lastModifiedBy>
  <dcterms:modified xsi:type="dcterms:W3CDTF">2009-04-07T16:51:27Z</dcterms:modified>
  <cp:revision>2</cp:revision>
  <dc:subject/>
  <dc:title>Presentation</dc:title>
</cp:coreProperties>
</file>